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7A0-8306-49D2-ABF8-78D83294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117-22A5-40CC-AA27-2F6D2504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074-AEA8-4A67-BCBD-282F69ED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368-00E8-4B2C-B02D-C61BF479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E291-5252-478C-AF9F-BE410B90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A117-7348-48D3-93D8-CE7A7A72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0E5F-64E1-4AAB-A21E-902FB05E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7EF7-3BE3-4603-B4C0-DF5D8BF4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F2E8-D379-4B99-9848-5265DD2A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691F-D4B1-4998-BC30-DF005186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B61A-9C0A-48AC-BBBC-3E10F57D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4A1-EA18-44FC-BD3C-A1167FAB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6BC1-072C-4AA0-91CB-9E261FB2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F894-787D-4E4A-A4E8-A8AD9935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09E8-A5D2-4E5A-A29D-86D3D1F7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BC13-57A1-4873-A8D0-008E5386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D205-7D5C-493A-9CA0-E2371211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FD6-7853-499F-B364-89539E42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8A4-FF24-4A99-9316-398A1A69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90FF-3DEC-4515-B6BE-5528442B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F12-12C7-4F05-9F97-C4C70FEB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72A-F1C1-4437-B89E-97300CAD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8524-65A8-4F6D-9C84-ED0B3B21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C45-DC92-47BA-8EDE-36849000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D1E7-E4A7-4B7C-AABA-DB6E02FD5D3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92A9-B403-48C3-AE3C-3C1845DEC38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view/Preview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ctivating Prior Knowledg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yramid Re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’s turn so your back is facing the scre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’s turn so you can see the scre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slide comes up, start at the bottom left and go across giving clues to your partner.  When your partner gets a category, give the next clue until you have reached the top of the pyrami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your partner a HI FIV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one want to volunte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ill hel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766800" y="175248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XKXa_ExgKnc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0840" y="2438280"/>
            <a:ext cx="70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D4AwXBmHHos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yramid Re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’s turn so your back is facing the scre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’s turn so you can see the scre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slide comes up, start at the bottom left and go across giving clues to your partner.  When your partner gets a category, give the next clue until you have reached the top of the pyrami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your partner a HI FIV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304920"/>
            <a:ext cx="8915400" cy="632448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2514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4419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4419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4419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4495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114300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gs  that happened in the 1970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5257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 of 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29718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525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28195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gs Albert Einstein would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52578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886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3886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380880"/>
            <a:ext cx="8915400" cy="632484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2514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4419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4419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4419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4495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29718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-90-90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48769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 of an Acquisition L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281952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Graphic Organi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50292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s to 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91440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 Summarizer Would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4876920"/>
            <a:ext cx="152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ing Think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2133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3886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3886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380880"/>
            <a:ext cx="8915400" cy="632484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2514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4419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4419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4419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4495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1219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 of an LFS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52578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s to “Launch” a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2971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Vocabulary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5257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Summari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31240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52578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for Scaffo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4038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4038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15Z</dcterms:created>
  <dc:creator>nneusbaum</dc:creator>
  <dc:description/>
  <dc:language>en-US</dc:language>
  <cp:lastModifiedBy>ccapozzoli</cp:lastModifiedBy>
  <dcterms:modified xsi:type="dcterms:W3CDTF">2009-01-29T18:00:14Z</dcterms:modified>
  <cp:revision>8</cp:revision>
  <dc:subject/>
  <dc:title>Slide 1</dc:title>
</cp:coreProperties>
</file>